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E97-AEE3-41A3-8585-261F853E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493-4437-4CD4-B453-55F237CF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49D-7758-4A48-8BCD-040082CA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C71-8688-4A20-BD31-E94A4885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7704-C2E2-4454-869E-04F3AF88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5AB8-09E9-4FEB-94BC-CC8F3A1D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911E-285C-41B9-A73D-9308C1C5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7AA8-20B5-4A50-A087-19FFECD1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8434-544C-439A-9069-FBCEFA79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0E0B-82A2-4F61-846A-D33944A4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EB38-673F-4736-8087-2632A80D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CB3-4582-45A9-95B8-33A9DC47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07AD-A55F-45B4-9593-FF8FAEE8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4443-5F65-4A36-B899-A5E40D4B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6ADA-F944-477C-B05C-D1EF25B2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A6C1-2CBB-4900-9AD0-4B381414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EB26-BC9A-4E58-B7C2-F3073636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EF6DB-F60C-473D-812F-49F3A487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67AEA-E23F-4F00-936C-D4A1B770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29332-9B43-4E89-BA16-94EE46DA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E9740-D43D-4F10-A500-DCA5CF06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7D397-274D-4CB2-8626-BF24A35E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747-599C-4C2C-A620-36CEB320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B4A64-BB16-4850-8F2B-7EEE9B49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ACD0B-7308-413B-B7AE-A8366902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AC087-7F31-4D6B-9641-D73A80AA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E4BCD-0E4B-4278-A48D-518AB2F7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3AEF3-5B10-44E5-A182-317E7B70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25EA9-F571-4AD2-B7DB-2D9D943B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4C7F8-27CD-482E-8EDE-D02D606F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693B1-E4AD-4DB2-AA06-F890C47A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0EB19-3A49-4B62-BEBC-A5DE71DF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4E17C-A247-4F0B-85DD-A353C071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8597-A876-4861-94E1-6100E46B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8A3F1-FBDB-4394-B906-F2FC387A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04877-01CA-4988-B758-91F984CF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D22AD-D20B-417E-9C0C-57BE13B3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1E394-C86A-4A41-80D7-7312415A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AE88D-8B45-441B-8F1A-47A4DA96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8D990-D367-4E90-993B-7F915853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84249-8995-4735-8BB5-B689512D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04608-C699-4A4D-A2D0-5A22709D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56336-9645-404A-AFFD-9BBCF0A8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9DAB6-2E5D-42CE-A679-908BC13F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B7E-DE4D-4547-9F34-AB9F38F0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DFE2A-5491-41BF-B59B-6FC384AF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F3CBC-75F0-4CCD-9A2C-A7D7D598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550B7-DC0B-4AD5-BCC5-235E0D8C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AAF1A-45D4-4AC6-B76D-11BCC571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00121-9E6B-4967-951D-3107E819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81A41-1D30-444F-9ED9-0A15C964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BD329-B0F4-40D5-94C3-4601D7BC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0E83A-FB98-4CFC-B2BE-59A1CB29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505AD-5EB1-423E-B44B-B64658B9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D511B-A6B5-4D63-B110-5BE97C9C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F421-4690-4119-A29B-E4C902EA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65599-667B-48B6-8FD1-B6A3F7DF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73367-CA02-4460-8A1A-A7D2AC20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316F9-D375-484A-B1F0-40546E8B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2123F-F82C-436C-9576-F8F3A0F3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B0222-C005-47F1-AF22-CF6A3A02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11750-4378-4720-B598-D9F28C86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618F1-1917-4EC9-9CFE-D35492A9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7C40B-98ED-4101-8E68-4BBE3AEF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D72EC-7387-4D92-BD0B-F86B6B2B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E14AB-2BEA-44F1-9FC8-7BBC40BF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12AA-680B-4596-A808-9F569F08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B9112-1CD0-4BC8-A757-0E4BC8EA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04970-2D52-4FA0-83AB-79F1548E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3275E-876B-4AFF-A383-C31A1760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2078F-4885-46A0-900D-01C6B835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D2416-296E-4219-9F37-0E290492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F8928-2E0A-4A63-8832-B62A99C1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8ACE2-B505-446C-AC56-EB2606D4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C1183-8517-465E-875F-38CBF944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31D55-B840-4944-B7DF-9F70498A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C25B4-B4EE-4582-B9A6-EA64C974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B37-1BE3-41BB-8EA7-6400758C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9F5C8-D21A-48DD-8D4A-8D8CE297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AC0B5-2A26-4497-BDC9-4F0863D9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7AE98-6BC4-4D3A-9143-9E7A7BD6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69744-049A-4DCE-B478-BA576168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0773D-62FA-4AA1-80A1-D9F02FE5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C86-1306-4DA6-AF67-F5E76152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BC2B-B320-4545-8924-DBA01D6FB35E}" type="slidenum"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47E3-4368-4CD0-AE88-E0F738B0576A}" type="slidenum"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EB14-535D-479E-B4D7-E5612C30811B}" type="slidenum"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6DCD-A4AA-47F8-8416-C47FB93062DF}" type="slidenum"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2BC9-67E3-4D3C-B7B1-C0F03D16A8D0}" type="slidenum"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59D7-79A1-4943-B117-5E31DBFE106E}" type="slidenum"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6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39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2FCC-6FBF-44B7-8816-08AF9AD0036A}" type="slidenum"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Comma Usag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c3340"/>
                </a:solidFill>
                <a:latin typeface="Times New Roman"/>
                <a:ea typeface="Times New Roman"/>
              </a:rPr>
              <a:t>Rules, Examples, and Practi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Tips: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use a comma befo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, so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ining independent clauses.  The comma may be omitted befo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, but, or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the independent clauses are very short and the meaning is clear without the comm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LEAR:  I will work with Emma and Josh will help Madis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:  I will work with Emma, and Josh will help Madis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Tips: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confuse a compound sentence with a simple sentence that contains a compound verb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hley and I looked everywhere for the sheet music, but we couldn’t find i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hley and I looked everywhere for the sheet music but couldn’t find i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Tips: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remember that compound subjects and compound verbs are not separated by commas unless they are made up of three or more item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begin a project and when you finish it are closely relat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Three Son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ove Lu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ck Van Dyke Sho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ll considered television classic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Practic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acles has been portrayed in several movies and his name has some to stand for someone of immense strengt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mighty warrior’s father was Zeus and his mother was a mortal named Alcme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ny Greek mythological figures were characterized as the children of gods and mortals and were known as “demigods.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i:  Use commas to set off nonessential subordinate clauses and nonessential participial phrases</a:t>
            </a:r>
            <a:endParaRPr b="0" lang="en-US" sz="28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onessential clause or participial phrase contains information that is not necessary to the senten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la Harris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was offered scholarships to three different colle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ll go to Vassar in the fal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ghtened by the thun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oth of the kittens jumped into my lap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i continued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ssential subordinate clause or participial phrase is not set off by commas because it contains information that is necessary to the meaning of the senten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la Harris is the only seni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was offered scholarships to three different colleg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studen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ing to go on the trip to South Americ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sign up by Frid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i continued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subordinate clauses and participial phrases may be either nonessential or essential.  The presence or absence of a comma tells the reader how the phrase or clause relates to the main idea of the sente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quirre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its bushy tail twitching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s nibbling on an acorn.  (Only one squirrel is in sight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quirrel with its bushy tail twitching was nibbling on an acorn.  (More than one squirrel was visible, but only one was twitching its tail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Practic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. Lowe who is a former pro football player is helping to coach the junior varsity team this ye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ia caught a steelhead which is a kind of trout as well as some rainbow trou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urists who are not fond of cold weather should think twice about vacationing in Alaska where temperatures can drop to below zer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j:  Use a comma after certain introductory elements</a:t>
            </a:r>
            <a:endParaRPr b="0" lang="en-US" sz="39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375120" indent="-324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comma aft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 any mild exclamation, such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beginning of a senten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920" indent="-32400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you are welcome to join u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75120" indent="-324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comma after an introductory participle or participial phras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920" indent="-32400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reading my report, I saw that I had writt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ril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stead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erril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fore the wor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f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75120" indent="-324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920" indent="-32400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75120" indent="-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920" indent="-32400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920" indent="-32400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75120" indent="-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75120" indent="-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75120" indent="-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j continued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comma after two or more introductory prepositional phrases or after one long introductory prepositional phras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park near my house, a music festival will take place this weeken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day when the last autumn leaf finally fell, I packed my bag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comma after an introductory adverb claus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the orchestra tuned their instruments, the stagehands checked the curtai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Items in a series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f:  Use commas to separate items in a seri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had been a correspondent for the wire service in London, Paris, Rome, and Madrid.  (word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tudied for the test on the way to school, during homeroom, and in study hall.  (phrase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porter wanted to know who I was, where I went to school, and I felt about getting my driver’s license.  (clause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55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use a comma before the first item or the final item in a series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Practic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king as fast a possible we reached the store just before it clos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scene at the end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ablanc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ck says goodbye to Ils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let’s take dancing classes togeth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I really do not enjoy working in the gard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mistaken for Halle Berry my aunt is often asked for her aut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k:  Use commas to set off an expression that interrupts a sentence</a:t>
            </a:r>
            <a:endParaRPr b="0" lang="en-US" sz="39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 commas to set off nonessential appositives and appositive phras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pa, a game similar to volleyball, is a popular sport in the Philippin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ames Baldwin wrote the novel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Go Tell It on the Mountai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ords of direct address are set off by comma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xter, please help your brother set the t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seem upset, my frien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k continued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enthetical expressions are set off by comm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fter all, by the way, for example, in fact, in the first place, on the other hand, natural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train heading to Edinburgh will, I am sure, be on tim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y grandfather, by the way, created these colorful sand painting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 could see by the way Malinda worked that she wanted to do her best.  (not parenthetica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Practic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annah to tell the truth is not the world’s most diligent stude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hido the code of honor of the Japanese samurai warriors was the subject of the professor’s lectur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 pal I wouldn’t touch that electric wire if I were yo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l:  Use commas in certain conventional situations</a:t>
            </a:r>
            <a:endParaRPr b="0" lang="en-US" sz="39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tes/addres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waii achieved statehood on August 21, 1959, and became the fiftieth stat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rite to me at 423 Twentieth Street, Salt Lake City, UT 84101-0423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 began rehearsals on June 20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fter many years of foreign rule, the Philippines became an independent nation on 4 July 1946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d a severe storm hit Luzon in October 1999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l continued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lutations/closings of personal lett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ar Angela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ve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itles that follow a person’s na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ter Grundel, J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rraine Henson, Ph.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zel Sellers, M.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m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use unnecessary comm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, and I put a videocassette, and a fashion catalog, in the time capsul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brother, and I, enjoy hiking, and last summer, we spent a week, in Arizona, exploring the Grand Canyon, with our cousin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Practic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parents were married on June 3 1975 in Portland Oreg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ssociation has its headquarters at 6749 5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reet Kansas City MO 64153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al of BRHS is Jose Reyes J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guest speaker will be Marrisa Valdez Ph.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way, did you know that, the Robertsons have moved, to Palo Alto, C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Tips: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ins the last two items in a series, you may omit the comma before the conjunction if the comma is not needed to make the meaning clear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:  Soccer, basketball and lacrosse are my favorite sport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LEAR:  Joetta, Lucia and Ben are rehearsing a scene from the musica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Tips: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ll items in a series are join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o not use commas to separate th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rick and Han and Jina will represent the senior clas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Practic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 opened the world almanac checked the index 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d the capital of Rwand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ted people can give their applications to Jill Jo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y Mason or m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 asked the newcomer when he moved to tow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he works why he chose Alex City and what 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s to do on weeken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g:  Use a comma to separate tow or more adjectives preceding a noun.</a:t>
            </a:r>
            <a:endParaRPr b="0" lang="en-US" sz="39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herine Dunham is a creative, talented dancer and choreograph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see that boring, silly, worthless movi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use a comma before the final adjective in a series if the adjective is a thought of a part of the nou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Tips: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tests will help you determine whether an adjective and a noun form a uni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1:  Insert the wor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ween the adjective and the noun. 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ts sensibly, use a comm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 It was a crisp, clear fall day.  </a:t>
            </a:r>
            <a:r>
              <a:rPr b="0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 would fit logically between </a:t>
            </a:r>
            <a:r>
              <a:rPr b="0" i="1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crisp</a:t>
            </a:r>
            <a:r>
              <a:rPr b="0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clear </a:t>
            </a:r>
            <a:r>
              <a:rPr b="0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but not between </a:t>
            </a:r>
            <a:r>
              <a:rPr b="0" i="1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clear</a:t>
            </a:r>
            <a:r>
              <a:rPr b="0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fall</a:t>
            </a:r>
            <a:r>
              <a:rPr b="0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2:  Change the order of the adjective.  If they can be reversed sensibly, use a comma.  </a:t>
            </a:r>
            <a:r>
              <a:rPr b="0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Clear, crisp day</a:t>
            </a:r>
            <a:r>
              <a:rPr b="0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 makes sense, but </a:t>
            </a:r>
            <a:r>
              <a:rPr b="0" i="1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fall, crisp day</a:t>
            </a:r>
            <a:r>
              <a:rPr b="0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fall, clear day</a:t>
            </a:r>
            <a:r>
              <a:rPr b="0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 do not.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Practic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imble wily stealthy ferret eyed the rabbit cautiousl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viewer described the movie as action packed thrilling and breathtakingly realisti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m and Pedro sat enthralled during the long exciting basketball gam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h:  Use a comma before a coordinating conjunction when it joins independent clauses.</a:t>
            </a:r>
            <a:endParaRPr b="0" lang="en-US" sz="28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ing conjunction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, and, nor, but, or, yet, s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NBOYS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ky looks clear, yet rain has been forecas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aw a performance of August Wilson’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now I am eager to read his other play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13:56:46Z</dcterms:created>
  <dc:creator>pcoles</dc:creator>
  <dc:description/>
  <dc:language>en-US</dc:language>
  <cp:lastModifiedBy>pcoles</cp:lastModifiedBy>
  <dcterms:modified xsi:type="dcterms:W3CDTF">2010-08-24T18:01:22Z</dcterms:modified>
  <cp:revision>25</cp:revision>
  <dc:subject/>
  <dc:title>Comma Usage</dc:title>
</cp:coreProperties>
</file>